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03C-58EA-4A39-9E78-60B5254F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988-6569-4BDC-BE8A-2D050F26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F2B-D37D-41F7-B2AD-ACAB8F05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CD1-E04A-4E9A-9B6E-52BF5BC1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B7E-8164-4CE8-BE38-2E57AC83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5B3-2947-426F-9E9E-1A5225A0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2AC-741F-44CC-B37E-13F1979B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C47-D027-4A54-8D5A-C7CDFE49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11C-3D74-4CB7-B03C-9B440C5D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4C5-1D6C-4171-A019-A131B289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BFC-AC61-4AD7-9AA7-477E78AF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EC4-36F3-46C3-A6E8-5F31BE97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70BB-1315-42C0-8AB9-A6E583E41E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447920"/>
            <a:ext cx="8458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600200"/>
            <a:ext cx="8458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600200"/>
            <a:ext cx="0" cy="5105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304920" y="22824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Divided Kingdom, Part 2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udah Alo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7, Lesson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ok of Nah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ign of Josiah 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147-1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5720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ll There Was No Remed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876-AD6A-4454-A335-44267A66EBB3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osiah Repaired the Temple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Kings 22:3-7;  2 Chron. 34:8-1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le had been tra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1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ear of his reign (age 26), he instructed the priests to repair the te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rs and materials were paid from money collected from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rds kept of the silver collected but not the money colle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727-102A-4A45-AB06-A7592F3AB006}" type="slidenum">
              <a:t>10</a:t>
            </a:fld>
          </a:p>
        </p:txBody>
      </p:sp>
    </p:spTree>
  </p:cSld>
  <p:transition>
    <p:blinds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Book of the Law Discovered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Kings 22:8-14  2 Chron. 34:14-2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lkiah, the high priest, found the book of the law of M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han took the book to Josiah and read it to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iah tore his clothes in fear because of the message of wrath to those who have not kept the words written in the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nted his men to go to Huldah, a prophetess, to inquire of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21A-B108-4DB3-93EA-2ADBCE881D51}" type="slidenum">
              <a:t>11</a:t>
            </a:fld>
          </a:p>
        </p:txBody>
      </p:sp>
    </p:spTree>
  </p:cSld>
  <p:transition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rophecy of Huldah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Kings 22:15-20  2 Chron. 34:22-28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 confirmed the calamity that was to come upon the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:  Idolatry (spiritual adulte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Josiah will be spared from the wr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:  He heard the words and humbled him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ssengers gave Josiah the n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098-A961-43FB-866F-4A05FF03D3AA}" type="slidenum">
              <a:t>12</a:t>
            </a:fld>
          </a:p>
        </p:txBody>
      </p:sp>
    </p:spTree>
  </p:cSld>
  <p:transition>
    <p:blinds dir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ah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lkoshite (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life 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book written before the final downfall of Nineveh (about 612 B.C.); probably during the reign of Josiah, or even earl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edicted the destruction of Nineveh – the capital of Assy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380-2D45-4999-BC25-9C5EF6999C3A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05520" y="1371600"/>
            <a:ext cx="11430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5486400"/>
            <a:ext cx="3429000" cy="7038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syria during the time of Nahum the reign of Jos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F30-9432-4C48-922A-A78377B151EE}" type="slidenum">
              <a:t>3</a:t>
            </a:fld>
          </a:p>
        </p:txBody>
      </p:sp>
    </p:spTree>
  </p:cSld>
  <p:transition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Theme of the Bo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urden of Nineveh” (1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mfort Judah who had longed for deliverance from Assy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mphasize the justice of God toward the heathen world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hum saw God’s power for salvation of His people and for vengeance on their 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rophecies were remarkably fulfi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696-FECA-4A7B-84F9-EF627E8EF1BF}" type="slidenum">
              <a:t>4</a:t>
            </a:fld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ahum – Chapter 1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’s mercy and judgment (v.1-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jealous, vengeful, and wrath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slow to a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power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is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knows those who trust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enemies cannot escape His fury – they will be utterly destroyed (v.8-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called on Judah to celebrate (v.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852-C979-4F0C-AE83-D0A129606405}" type="slidenum">
              <a:t>5</a:t>
            </a:fld>
          </a:p>
        </p:txBody>
      </p:sp>
    </p:spTree>
  </p:cSld>
  <p:transition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ahum – Chapter 2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ege and destruction of Nineveh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-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neveh warned to prepare for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ttack will be furious with great sl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streets are filled with soldiers and chariots who kill and destro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defenders will flee; the city is deso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time for punishment had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said, “I am against thee” (v.1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BA0-D96F-4660-9AFE-376F932710C6}" type="slidenum">
              <a:t>6</a:t>
            </a:fld>
          </a:p>
        </p:txBody>
      </p:sp>
    </p:spTree>
  </p:cSld>
  <p:transition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ahum – Chapter 3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neveh’s sins and inevitable doo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v.1-1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judgment was fair and deser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would strip her naked and all nations would see her filth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ample of No (Thebes of Egypt) which the Assyrians destro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ed to prepare for battle but to expect complete destruction (v.14-1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5BD-0977-4F0A-B472-AC3F322D0547}" type="slidenum">
              <a:t>7</a:t>
            </a:fld>
          </a:p>
        </p:txBody>
      </p:sp>
    </p:spTree>
  </p:cSld>
  <p:transition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y the Fall of Nineveh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al of the evil (Assyr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ful, brutal, arrog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fed on the blood of other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d special revelation from God -Jonah preached to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estroyed Israel and caused Judah much gr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ment was deserved for their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e curse of Gen. 12: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1D8-4FA2-4070-8EA0-00B54B0A3D1E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w, back to Josiah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ed his reign at age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ear of his reign (age 16), he began to seek the God of Dav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ear of his reign (age 20), he started cleaning out the idolatry in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6A09-A883-47FA-BD1D-8EC31BA5E9E9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4:05:51Z</dcterms:created>
  <dc:creator>Frank D Vines</dc:creator>
  <dc:description/>
  <dc:language>en-US</dc:language>
  <cp:lastModifiedBy>Frank D Vines</cp:lastModifiedBy>
  <dcterms:modified xsi:type="dcterms:W3CDTF">2006-03-08T04:46:29Z</dcterms:modified>
  <cp:revision>17</cp:revision>
  <dc:subject/>
  <dc:title>The Divided Kingdom, Part 2 </dc:title>
</cp:coreProperties>
</file>